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0D5-D8BA-4208-AF57-7FF6899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D0D-C497-4916-94EA-966FF4E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7FD-DFBD-40D1-BEE8-2236F26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217-0E97-4100-95C1-FA504F98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3D3-5087-461A-BD91-5A670A29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188B-0AC8-4642-863A-0378833A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348-5318-454B-A558-D4C5A17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1C4-B5FA-4752-906F-4CC1A43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9D9-231F-49DC-B6ED-FE35301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7CC-0DAF-43D9-A93C-3A0AB16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F1E-3882-418E-BEFA-8B6E8B5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4BD-438C-42F9-A339-7C03AC3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06E7-425F-4C71-9C50-3375065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A8F9-09CC-4A5A-972C-2FD730B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9E1-B8B6-4D48-A87B-9892EA63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7079-7C01-4295-987F-7E3405BF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1E68-678D-4852-8C40-CFFFC0FB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D960-E875-4C7A-AAD9-8969797B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0A3B-AC7B-4E4E-8A68-B41C6E4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11E8-38DD-4A32-A19F-DAED1F1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2EE7-9DE9-48A0-8847-19B0175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EA07-518F-45C2-8CDA-EB78E1BB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10C-A612-437D-96B2-6FD64EC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652E-D2B4-4EA5-9BC2-1158E5C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CA10-03C3-45ED-A087-B1A3E3A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2203-BA18-441E-B50F-1EA306E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431E-BE8D-4F79-9F97-3E59F1D6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4D63-2C76-4D7C-9F11-BF7D1BB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B84F-D39B-4E3F-9F39-B6AE2CD2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3C5C-06B9-4C6F-9296-C345D521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8A3F-5C84-4AF5-BD18-BC34C77F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15EC-1116-4217-874B-73C5528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A003-B560-493F-A2F4-5DEB48A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3C2-BDD9-4E39-9DE9-1142E543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CF10-8828-461C-81C5-BE5B94A2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F940-CDF3-43D7-9673-09B751C2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85E4-ABE0-43FE-94A9-B32CC5E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02FE-B682-41E3-A54B-762C178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21A6-D122-406E-8097-D451361C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74D8-5FB1-45CC-B7BB-D918A90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D004-F0A6-4F21-A916-B4ACCF7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DB3C-1492-4A45-A747-5BC17039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FDA8-F6D8-4036-85C1-B59DBDDD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D467-5378-4F4F-BA1A-F7A10289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B68-A370-42FE-8AFB-56F160FD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2D1F-CF4A-4930-9008-9B1D3FFF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70318-5BFE-4CCA-8D61-0A66A2DE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BA97-FF5C-4338-AB0F-9C40E48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AC4A-48BD-49BB-8F3D-0355BAAF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BDEF-62D9-484E-8212-AE51022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6122-8399-4B73-89E1-8A42DC0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942D-C615-45B4-88D7-EB54987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DA84-8447-4034-AE0F-426DEE1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CDD0-5F26-41B7-B588-46F95256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8DE9-DE19-4728-8D4E-D9F2AAD3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7EF-B232-4770-A7FE-51F46EBC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CAA4-2F53-4261-B603-02B79719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5693-D56B-4D4B-8CF6-0E46A9A3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758D-9D5F-47C3-91FC-2DFF95D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40CD-2906-49D4-B34E-13C1F97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5FC4-2B14-4ED0-A27F-5173BE9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2B5A-D773-457B-871B-51290760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4291-2067-42FE-BC3E-DEFF08E8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1D03-5F10-44C4-A938-3407E50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DF86-B666-45EC-8B63-B679858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D9F2-7851-4BC6-B7CD-85D8E06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98C-D6A4-430D-9F0E-A03C547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9103-4BAC-47A4-A641-9FA4EF2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51BF-E8EF-44A8-8CBD-000E0196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A4FCD-6540-407E-98EB-0F471DA5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860-4949-4DE1-92F5-9A8E4F5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117-839F-4A42-A13C-FC3D1BC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8AC-55A5-4474-89CE-7EF58A7CDFF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4AD0-8C42-45E4-BD48-8FA3BC0CC1D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A00-1C16-463B-8338-3BD995C1003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930-8E9E-4283-B9D1-10CA3583A3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424-73B7-43BD-AA3C-BF3915A5D1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90F6-D818-46C5-ADC3-6EA6DF736C2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aRlFsYmkeY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2520" y="3200400"/>
            <a:ext cx="7077240" cy="244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jeremy.smith\AppData\Local\Microsoft\Windows\Temporary Internet Files\Content.IE5\C21NY5RJ\MC900432618[1].png"/>
          <p:cNvPicPr/>
          <p:nvPr/>
        </p:nvPicPr>
        <p:blipFill>
          <a:blip r:embed="rId4"/>
          <a:stretch/>
        </p:blipFill>
        <p:spPr>
          <a:xfrm>
            <a:off x="4114800" y="914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Users\jeremy.smith\AppData\Local\Microsoft\Windows\Temporary Internet Files\Content.IE5\ULR5AJH0\MC900384040[1].wmf"/>
          <p:cNvPicPr/>
          <p:nvPr/>
        </p:nvPicPr>
        <p:blipFill>
          <a:blip r:embed="rId5"/>
          <a:stretch/>
        </p:blipFill>
        <p:spPr>
          <a:xfrm>
            <a:off x="4495680" y="457200"/>
            <a:ext cx="714600" cy="830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6"/>
          <a:stretch/>
        </p:blipFill>
        <p:spPr>
          <a:xfrm>
            <a:off x="5486400" y="44197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7"/>
          <a:stretch/>
        </p:blipFill>
        <p:spPr>
          <a:xfrm>
            <a:off x="380880" y="4114800"/>
            <a:ext cx="2019600" cy="2266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jeremy.smith\AppData\Local\Microsoft\Windows\Temporary Internet Files\Content.IE5\ULR5AJH0\MC900078722[1].wmf"/>
          <p:cNvPicPr/>
          <p:nvPr/>
        </p:nvPicPr>
        <p:blipFill>
          <a:blip r:embed="rId8"/>
          <a:stretch/>
        </p:blipFill>
        <p:spPr>
          <a:xfrm>
            <a:off x="3505320" y="4419720"/>
            <a:ext cx="12016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Georges Cuvi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’s ideas certainly were not universally accep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vier noted a greater number of extinct species in older str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a “progression” of life on Ea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t he did not see his findings as evidence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478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ree Key Argu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 chain of being is fal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ving things are too complex and dive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extinction in the past is a re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species that had ever existed had gone extin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orrelation of parts makes evolution impossi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imals in the process of change would be less suited for their environment and would become extin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strophic Ge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vier noted the catastrophic events that punctuated Earth’s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each event, new species of plants and animals had aris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what avoided where they had come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omas Malthu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t another key figure in the evolution story before Da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ssay on the Principle of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ally stated that birth rates exceeded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es even more so in na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58000" y="2590920"/>
            <a:ext cx="175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arles Darw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rn in 180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ther was a physician (and evolutionist), mother came from a wealthy fam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825 went to University of Edinburgh to study 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, went to Cambridge to become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ergy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le there, studied natural history, caught the attention of prominent profess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out to serve as a naturalist on the HMS Beag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t many specimens back to London – this gained him resp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inciples of Geolog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y Charles Lyell – converted to uniformitari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posed catastrophism (Cuvi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s of uniformism  coincided with tranformism brought up by Lemar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w many things while on the Beagle that indicated evolution was happe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 next mo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hing. (at least with regards to evolut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chanism was still an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d back to England, received money from his father, and…married his cous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907400" y="5105520"/>
            <a:ext cx="12366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d to Downe House in 184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is where he would compose one of the most ground-breaking and controversial books in history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On the Origin of Species by Means of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veloping Natural S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vately, Darwin was very enthusiastic about Lemarck’s the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it seemed limited to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 key was variation – observed domestic anim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work by Malthus – thought struggles may apply in nature as 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idea: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focus on struggles within a spe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lay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was ready to publish his findings in 1844, but waited until 185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?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book by a colleague, Robert Chambers outlined his views on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well receiv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s out well for Darwin th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ew Ide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witnessing Thomas Huxley tear apart Chamber’s book, Darwin re-evaluates some of hi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itially theorized evolution was intermittent – abandons th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drops idea of perfect adaptation (the correlation of parts id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ed evolution as two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219800" y="0"/>
            <a:ext cx="1924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ear 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pecies continues to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es diverge off into different species to find other nich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what he saw in the Galapagos, speciation seemed to make the most se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d that natural selection acted as “a thousand tiny wedges, driving evolution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ation to the environment (Lemarck) was th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h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natural selection was th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y 1859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fred Russell Wallace writes letters to Darwin in favour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ds a manuscript – shockingly similar to Darwin’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th release their work in 1859, Darwin gets recogn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, yet again, sparked vigorous debates about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wants no part, Huxley steps in to defend hi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s to himself as “Darwin’s Bulldog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fortunately, Darwin dies in 1882, when his work experienced a drop in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eriences a revival in early 1900’s with advent of Mendelian gene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theories combine in what was referred to as the “forging of the modern synthesi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rig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was evolution first discuss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ological record challenged traditional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evidence: Earth’s crust was stratifi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2543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rth is very old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ossil record also showed organisms thought to not be in exist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ose, and the answers were deb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 conclusion: life has existed on Earth for much longer that initially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Jean-Baptiste Lamarc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 evolution gained popularity, question now became,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ow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the soldier-turned-invertebrate taxonom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362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762120"/>
            <a:ext cx="7467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eased numerous papers between 1800 and 1809, summed up i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Zoological Philosoph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180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the change of hear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is sits on a rather large fossil 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scientists speculated that species found in shallow Paris basin now lived in other parts of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t, by Lamarck’s time, inventory of species had gone so far it seemed unlike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inc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ain, Lamarck says, “Nay, n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 clung to notions of benevolent Mother Na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postulated that species had evolved, and set out to determine th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wo-Factor Mechan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 was a believer in the “great chain of being”  (similar to Aristot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lieved simplest organisms continuously being spontaneously generated (again Aristot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species can be traced back to simple ances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ans, and other “higher” species have just been around long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191360" y="1676520"/>
            <a:ext cx="19526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this does not address how animals change habits (and he believed, form) to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da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476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8:29:25Z</dcterms:created>
  <dc:creator>ED18</dc:creator>
  <dc:description/>
  <dc:language>en-US</dc:language>
  <cp:lastModifiedBy>ED18</cp:lastModifiedBy>
  <dcterms:modified xsi:type="dcterms:W3CDTF">2011-04-20T18:51:53Z</dcterms:modified>
  <cp:revision>2</cp:revision>
  <dc:subject/>
  <dc:title>Theories of Evolution</dc:title>
</cp:coreProperties>
</file>